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C71-D5B1-4187-8EC0-43563F6A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DE5-0BA9-4CBE-8CF7-0E1B507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03D-E59B-4826-BCFB-0D7387A9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A04-7D9D-4DB8-B7AE-56C635CF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E1A-6127-4DB0-B66C-33C01B5E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C9F0-85F3-4E04-92CC-938B19C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CB8E-5DAC-475B-9926-D138EB9A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3C9C-5ED6-4DC1-A059-D169EAC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810-677E-414B-AD1D-916A689E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CBAD-7DF8-4BAB-852B-85AC25F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550E-8980-46BC-A417-40B2E9C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98D-13CE-41B3-B40A-24448B8C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A0AE-EA6E-442B-9637-3E5D225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4B34-0C06-46B9-8540-5524321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A901-4CDF-441E-9940-17C8D85A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008-9A6E-41A8-B0F7-7E26A2F6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5B16-7B8C-42FE-853A-727DE90E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8C5-96DA-4A2F-BF47-95B482E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4C0-02CF-4940-AE07-DAF79BC9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4D5-BD63-4523-89A7-31BCA8F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0E5-CA3F-448A-975C-B1D2DD7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4AF-52E1-4BC5-9721-58734A1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309-CC06-4612-AB45-12F6D97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4FD-19D7-4B38-891A-B2D61B7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A10-6E40-41E3-8D21-974699F00C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73E4-6FDE-4F89-8A9A-E1658AF824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565000"/>
            <a:ext cx="6400800" cy="10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Valutare…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a… e come…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62064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San Miniato, 4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li strumenti per la valutazione di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servazioni durante esercitazioni, lavori di gruppo, interventi in discussioni, lavori svolti a casa, esercitazioni alla lavagn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valutazione di processo avviene all’interno dell’aula, della lezione… è una forma di conoscenza, che si può anche formalizzare in voti…voti che sono in divenire e che marcano un cammino ver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valutazione di processo richiede una didattica interattiva e laboratoriale, che permette di osservare come lo studente apprende, capisce, risolve problemi, applica da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valutazione di processo permette allo studente di dare significato al suo stare a scuola, di scoprire il senso di ciò che 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907920"/>
            <a:ext cx="748656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tazione di risul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e a testare i livelli raggiu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e a certificar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à garanzia dell’esito dell’apprendimento/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 un momento insostitui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po’ come quando si impara a guidare: prima c’è l’istruttore a fianco a noi, poi dobbiamo dimostrare ciò che sappiamo fare da s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li strumenti della valutazione di risul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ogge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e più differenziate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orso all’interrogazione (suo valore anche form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nte verifiche “legg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egame tra prove e tipo di insegn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pproccio trasmissivo      Approccio per problemi,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costruttivo,interattiv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erifiche su contenuti      Verifica su compet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242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le nostre scuole super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cessiva esposizione alla valutazione di risul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eguenze  dalla parte dei doc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ess da mancanza di 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animento valutativo in certe fasi dell’anno scola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eguenze dalla parte degli stud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ss da pr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to sentito come definitivo, mortificante, che investe l’intera 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tativo di sottrarsi alle ver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enze strategiche) o di cop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cazione della scuola con il compito a tutto svantaggio degli aspetti form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er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cessità di tempi distesi per la riacquisizione del carattere formativo della scuola attraverso le seguenti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ttere la valutazione di processo nella sua posizione di centr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on farsi  prendere dall’ansia del voto: la valutazione di processo può tradursi in voti, anche se non defini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Offrire allo studente una seconda possibilità, incoraggiandolo a superare le carenze, giudicate momentanee e non de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Concedere allo studente sempre la possibilità “d’appel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Intervenire con il recupero durante l’attività e con interventi specifici separati, ove necess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alutazione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ali elementi prendere in consider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 voti delle verifiche (compiti in classe, interrogazioni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a non media aritmetica dei vot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3 – 5 – 6 – 7 = 5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7 – 6 – 5 – 3 = 5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lla scuola di ie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 valutava p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zion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re la classe dirig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ricoli scanditi d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ami in entr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ami in usci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04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47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inolt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imp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partecip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velli di par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capa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progressione del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alutazione finale come risultato di un giudizio globale che coinvolge tanto i risultati quanto la personalità complessiva dello stu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alunno è in grado/non è in grado di seguire proficuamente i contenuti disciplinari dell’anno succes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40000" y="549360"/>
            <a:ext cx="1830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0643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 tempo la scuola perde il suo ruolo selettivo per acquistarne u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iv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zione del cittad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nalzamento dell’obbligo scolas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uzione dei momenti esaminator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mbia il ruolo della valut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19280" y="475920"/>
            <a:ext cx="2622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lla scuola di ogg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tazione di risultato e di proc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alutazione di processo sostiene il processo di apprendimento perché permette d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ire l’andamento del perco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re eventuali difficol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dere, corregg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re la metodologia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76500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lla scuola di ogg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 ha come obiettivo il successo, non la sel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alutazione è orientata al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alutazione è insita nel processo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valutazione è l’atto fondant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l’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4360" y="50004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O.M.92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rt. 1 - Finalità della valutazione negli istituti di istru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condaria di II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. La valutazione è un processo che accompagna lo studente per l’intero percorso forma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seguendo l’obiettivo di contribuire a miglio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qualità degli apprendim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2. I processi valutativi..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irano a sviluppare nello studente una sempre maggiore responsabi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spetto ai traguardi prefissati e a garan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qualità del percorso formativ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oggetti coinvol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insegnante, che, da esperto, accompagna e facilita 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studente, che prende consapevolezza del proprio percorso: da dove viene, dove va, come sta and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icità dei due soggetti intorno al patt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ttori in gioco in questa relazione educ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fessionalità del docente: conoscenza disciplinare, aggiornamento, capacità metodologich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petti emotivi e relazionali: la passione che il docente mette nel suo insegnamento, il clima di incoraggiamento, la motivazione dello studente, il suo apprezzamento per il docente, il coinvolgimento per ciò che sta apprend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zione tra i vari fatto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219640" y="476280"/>
            <a:ext cx="262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Valut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ruolo del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mpagna ogni studente nel suo percorso di apprendimento, osservandolo, individuando subito le difficoltà e la loro natura e intervenendo con strumenti cognitivi e relaz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 il precettore di un t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5:59:47Z</dcterms:created>
  <dc:creator>Stefano Spinelli</dc:creator>
  <dc:description/>
  <dc:language>en-US</dc:language>
  <cp:lastModifiedBy>preside Cosci</cp:lastModifiedBy>
  <dcterms:modified xsi:type="dcterms:W3CDTF">2008-06-02T20:08:05Z</dcterms:modified>
  <cp:revision>44</cp:revision>
  <dc:subject/>
  <dc:title>Valutare…</dc:title>
</cp:coreProperties>
</file>