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C1AA-78F3-4DD2-BF88-1AA37741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9276-0992-4683-8E23-487F4074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C88C-470B-4977-BDCC-BFBDEE85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F19-8FD5-47CC-B862-882D667E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BA54-134A-42D8-838A-408061A9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1D43-469F-495C-996C-7E05ACA8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EEE7-CC9C-4E7C-9C32-ACA3897A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EE03-B4E6-47CC-BD9D-16D5A337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5E45-0A91-4B48-AE15-992E5ED9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98E6-A9DD-4D37-8FDE-6BC625F9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3AF9-2B1E-41EE-AF37-382B657F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18E7-47FA-41A8-B993-23777C60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FBD4-2136-4D24-A86C-EB9436D8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9B52-C047-4494-961F-865C557E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79B4-5011-42E8-8460-AD4924BF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BDAC-E807-41ED-A8C1-29F7BDA7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51B8-753E-480D-BC9E-D7A9C406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3535-4932-4CDF-8884-5D010AA4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040F-078B-4373-AF69-612099BD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2D98-2768-4256-B99B-4D4DBDB9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444A-4FAE-4DF0-94F3-079D7675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0781-14FE-46A6-9C47-4C6250B0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399D-DE4B-469E-AFFC-EC957EC6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CDC-C797-4E26-A31C-419497D8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7151-78FD-473D-9782-93008123C176}" type="slidenum"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F598-1355-4657-8133-70F4824B7783}" type="slidenum"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tudenti stranier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Normativa di riferim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.P.R. 394 del 31.08.1999 art.4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.M.n.24 del 1 marzo 2006: Linee guida per l’accoglienza e l’integrazione degli alunni stranie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e circolari sulle iscrizioni emanate annualmente - l’ultima è la circ.4 del 15.01.2009, in particolare l’art.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547640" y="609300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20 lugli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na Cosc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tudenti stranier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Iscrizion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 minori stranieri presenti sul territorio nazional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anno diritto all'istruzione indipendentemente dalla regolarità della loro posi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ono soggetti al diritto-dovere all’istruzione (fino a 16 anni) e alla formazione (fino a 18 anni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vengono iscritti in via ordinaria alla classe corrispondente all’età anagrafi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iscrizione può essere richiesta in qualunque periodo dell'anno scolastic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1547640" y="609300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20 lugli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tudenti stranier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dempimenti Collegio dei docen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efinisce le modalità generali di iscrizione:  alla classe corrispondente all’età anagrafica oppure alla classe immediatamente superiore o inferiore  tenendo conto di  titolo di studio, corso di studi seguito, ordinamento scolastico di provenienza, accertamento competenz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Formula proposte per la ripartizione degli alunni stranieri nelle classi, evitando comunque la costituzione di classi in cui risulti predominante la presenza di alunni stranieri o delle medesime nazionalità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efinisce il necessario adattamento dei programmi di insegnament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Formula proposte in ordine ai criteri e alle modalità per la comunicazione scuola-famigli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uò nominare una specifica Commissione di lavor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uò deliberare percorsi di formazione per docenti su temi intercultural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Elabora e approva il Protocollo di accoglienz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1547640" y="609300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20 lugli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tudenti stranier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Protocollo di accoglien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ccoglienza e orientamento degli studenti e delle loro famigli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alutazione iniziale e inserimento in class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Misure di supporto per l’acquisizione dell’italiano seconda lingu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Modalità di valutazione delle conoscenze ed abilità scolastich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icorso a risorse interne e/o estern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zioni di integrazio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ntatti con le famigli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apporti con reti di scuole, enti locali ed organizzazioni presenti sul territor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.....................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1547640" y="609300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20 lugli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tudenti stranier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dempimenti Consiglio di clas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labora per ogni studente straniero un Piano personalizzato che, a partire dalle conoscenze e competenze verificate, preveda, se necessari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 adattamento dei contenuti disciplinari: obiettivi minimi, nuclei fondanti, moduli sostitutivi..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 adattamento delle metodologie: materiale semplificato, ricorso all’operatività, alla didattica laboratoriale, uso di strumenti di facilitazione linguistica.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 adattamento delle verifiche: tempi prolungati, tipologie diverse, ricorso al mediatore linguistico.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Comunicazione a studente e famiglia del Piano Personalizzato                 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che diventa un Patto formativ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1547640" y="609300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20 lugli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tudenti stranier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Valutazio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possibile adattamento dei programmi per i singoli alunni comporta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un adattamento della valutazion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 lo studente deve essere valutato non sugli obiettivi della classe, ma sul suo specifico percors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 conseguenz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 in alcune discipline potranno essere applicati gli stessi criteri di valutazione della clas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  in altre criteri divers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 in altre ancora gli stessi criteri ma con strumenti di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ccertamento divers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1547640" y="609300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20 lugli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tudenti stranier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Apprendimento dell’italia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unto di riferimento Quadro comune europeo per le ling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 Accertamento dei progressi attraverso rilevazioni periodic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Apprendimento delle varie discipl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  Raggiungimento obiettivi definiti nel Piano Personalizzat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 algn="just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corso a verifiche alternative, che non si basino sull’uso della lingua italia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 algn="just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corso al mediatore linguisti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 algn="just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aggiore attenzione ai risultati di contenuto che a quelli espositiv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547640" y="609300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20 lugli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tudenti stranier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Condizioni per una corretta valutazione da parte del Consiglio di class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vere una conoscenza precisa del percorso pregresso dell’alunno, delle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aratteristiche delle scuole frequentate, delle abilità e competenze possedu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rivilegiare la valutazione formativa rispetto a quella certificativ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rendere in considerazione, oltre ai risultati disciplinari, gli altri elementi che concorrono alla valutazion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l percorso dell’alunn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 passi realizzat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La motivazione e l’impegn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Le potenzialità di apprendiment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Per l’ammissione alla classe successiva è fondamentale considerare la previsione di sviluppo dell’alunn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1547640" y="609300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20 lugli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tudenti stranier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lingua per comunicare può essere appresa in un arco di tempo che può oscillare da un mese a un anno... Per apprendere la lingua dello studio, invece, possono essere necessari alcuni anni [5/6]...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Linee guida per l’accoglienza e l’integrazione degli alunni stranier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olte volte le difficoltà evidenziate dagli studenti stranieri non sono imputabili a disimpegno ma ad una conoscenza non ancora adeguata della lingua dello studio, anche se la competenza  comunicativa appare molto buona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609300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20 luglio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.I.U.R.</cp:lastModifiedBy>
  <dcterms:modified xsi:type="dcterms:W3CDTF">2009-11-20T09:55:27Z</dcterms:modified>
  <cp:revision>30</cp:revision>
  <dc:subject/>
  <dc:title>PowerPoint Presentation</dc:title>
</cp:coreProperties>
</file>