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2395-8488-4254-9AB1-79679E0A1B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F88A-EC14-4B26-8DF7-E15697ACA5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50A-DEDB-4C58-984D-73DE72B857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FFA7-6D49-4FBC-884B-17D466A3C9B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5A04-65FC-44C8-9CC7-AAB779402D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19B-EBA7-4690-BF87-54749337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662-7C9C-4F87-B1EF-7FBAB7AA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995-1C8A-49F3-9EF7-9DE2B475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63C-F999-4B27-BE2B-5B1230FA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193-B6C6-4E06-B766-4246A259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1F5-F793-4A94-8737-A73D6D59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AC4-C7E9-4CDE-8CAD-20176A71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533-49FD-4A97-BB10-E8C60BDD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478-FA01-4F3D-BC31-3B5AA1FF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EF1-D92F-4EA7-926E-D93AEE7B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A2A-D383-4ACA-B79E-42DB056E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39E-0EFB-4171-B391-DA0949A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BA2-6A0F-45E7-A5F5-2715EDB8BCC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086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rendere una seconda ling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ia Ferrar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2590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e avviene l’apprendimento di una L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il problema degli errori è indissolubile da quello dell'apprendimento della lingua, di qualsiasi li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spostare l'attenzione da un concett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erro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 puramente negativo, visto come fallimento, difetto, manca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a un concetto più positivo come quell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interlingu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Mincho"/>
              </a:rPr>
              <a:t>, che riconosce il contributo dell'apprendente verso la costruzione di un sistema di ipotesi sulla lingua che sta imparando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5238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’inizio del suo percorso  l’apprendente non sa dove andrà a finire, prende quindi strade che gli sembrano promettenti, elabora e sperimenta ipotesi, anche se spesso è costretto a tornare sui suoi passi, fino a quando non intravede la via giu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può visualizzare il concetto di acquisizione di una lingua utilizzando l’immagine di un labirinto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4724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ntique-Olive"/>
              </a:rPr>
              <a:t>Interlin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43434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La nozione di interlingua tiene conto del fatto che le produzioni degli apprendenti non devono essere viste come insieme di parole e frasi costellate di errori, ma un sistema governato da regole ben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1219320"/>
            <a:ext cx="373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Sistema linguistico elaborato dall’apprendente che risulta dai tentativi di produrre una norma della lingua di arr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ntique-Olive"/>
              </a:rPr>
              <a:t>Gli errori e le ricerche sull’interlin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2362320"/>
            <a:ext cx="6934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ntique-Olive"/>
              </a:rPr>
              <a:t>Gli errori dal punto di vista della ricerca sull’interlingua sono manifestazioni di un sistema linguistico transitorio, con una sua logica interna, una sua coerenza e soprattutto una sua funzionalit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viluppo dell’interling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cquisizione avviene per st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une sequenze evolutive sono caratterizzate da principi universali: sono quindi indipendenti dalla L1, dall’età, e dall’istr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rare l’italiano L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2880" y="1661040"/>
            <a:ext cx="8058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ercorso di apprendimento è in larga misura univers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mbina mangiato spagh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mbine mangia camelle gi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bambine sono andate a dorm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uova, queste galline le hanno fatte tutte vi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buona, la maestra, sebbene faccia fare un problema diffi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mbiano da apprendente a apprendente velocità ed esito finale del perco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2285640"/>
            <a:ext cx="4114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333399"/>
                </a:solidFill>
                <a:latin typeface="Antique-Olive"/>
              </a:rPr>
              <a:t>Elementi caratterizzanti l’apprendimento</a:t>
            </a:r>
            <a:br>
              <a:rPr sz="3200"/>
            </a:br>
            <a:r>
              <a:rPr b="0" i="1" lang="it-IT" sz="3200" spc="-1" strike="noStrike">
                <a:solidFill>
                  <a:srgbClr val="333399"/>
                </a:solidFill>
                <a:latin typeface="Antique-Olive"/>
              </a:rPr>
              <a:t>di una seconda lin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990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Caratteristiche individ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90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Lingua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4197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Altra lingua straniera conosci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Cultura d’ori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47242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Strategie di comunicazione e d’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29718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Lingua da appr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Metodo di inseg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6858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-Olive"/>
              </a:rPr>
              <a:t>Luogo in cui si stu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mparare l’italiano L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2880" y="1550880"/>
            <a:ext cx="805824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 avrà una competenza più vicina a quella nativ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se ch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 una L1 più vicina all’ital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culturalmente più vicino agli itali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già bilingue in altre li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 precedenti esperienze di apprendimento di una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artiene a una famiglia che intende rimanere permanentemente in 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artiene ad un gruppo immigrato poco coeso, piccolo  e ap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ode di un input qualitativamente e quantitativamente più ri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ode di un insegnamento migli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te in atti strategie di apprendimento più effic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Ramat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S PMincho"/>
                <a:ea typeface="MS PMincho"/>
              </a:rPr>
              <a:t>Gli errori non sono tutti uguali</a:t>
            </a:r>
            <a:r>
              <a:rPr b="0" lang="en-US" sz="3200" spc="-1" strike="noStrike">
                <a:solidFill>
                  <a:srgbClr val="000000"/>
                </a:solidFill>
                <a:latin typeface="MS PMincho"/>
                <a:ea typeface="MS P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bisogni linguistici degli alunni immigr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28880" y="2959200"/>
            <a:ext cx="621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quisire l'ital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e la lingua ma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3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are gli err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1828800"/>
            <a:ext cx="8535960" cy="4141800"/>
            <a:chOff x="304920" y="1828800"/>
            <a:chExt cx="8535960" cy="4141800"/>
          </a:xfrm>
        </p:grpSpPr>
        <p:grpSp>
          <p:nvGrpSpPr>
            <p:cNvPr id="114" name=""/>
            <p:cNvGrpSpPr/>
            <p:nvPr/>
          </p:nvGrpSpPr>
          <p:grpSpPr>
            <a:xfrm>
              <a:off x="7620120" y="5451480"/>
              <a:ext cx="1218960" cy="517680"/>
              <a:chOff x="7620120" y="5451480"/>
              <a:chExt cx="1218960" cy="51768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0120" y="5451480"/>
                <a:ext cx="12189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5451480"/>
                <a:ext cx="12189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038480" y="5451480"/>
              <a:ext cx="3581640" cy="517680"/>
              <a:chOff x="4038480" y="5451480"/>
              <a:chExt cx="358164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038480" y="5451480"/>
                <a:ext cx="358164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38480" y="5451480"/>
                <a:ext cx="358164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due problem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04920" y="5451480"/>
              <a:ext cx="3733560" cy="517680"/>
              <a:chOff x="304920" y="5451480"/>
              <a:chExt cx="373356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304920" y="5451480"/>
                <a:ext cx="37335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20" y="5451480"/>
                <a:ext cx="37335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un problem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620120" y="4933800"/>
              <a:ext cx="1218960" cy="517680"/>
              <a:chOff x="7620120" y="4933800"/>
              <a:chExt cx="1218960" cy="517680"/>
            </a:xfrm>
          </p:grpSpPr>
          <p:sp>
            <p:nvSpPr>
              <p:cNvPr id="124" name=""/>
              <p:cNvSpPr/>
              <p:nvPr/>
            </p:nvSpPr>
            <p:spPr>
              <a:xfrm>
                <a:off x="7620120" y="4933800"/>
                <a:ext cx="12189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4933800"/>
                <a:ext cx="12189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038480" y="4933800"/>
              <a:ext cx="3581640" cy="517680"/>
              <a:chOff x="4038480" y="4933800"/>
              <a:chExt cx="3581640" cy="517680"/>
            </a:xfrm>
          </p:grpSpPr>
          <p:sp>
            <p:nvSpPr>
              <p:cNvPr id="127" name=""/>
              <p:cNvSpPr/>
              <p:nvPr/>
            </p:nvSpPr>
            <p:spPr>
              <a:xfrm>
                <a:off x="4038480" y="4933800"/>
                <a:ext cx="358164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8480" y="4933800"/>
                <a:ext cx="358164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due computr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4920" y="4933800"/>
              <a:ext cx="3733560" cy="517680"/>
              <a:chOff x="304920" y="4933800"/>
              <a:chExt cx="3733560" cy="517680"/>
            </a:xfrm>
          </p:grpSpPr>
          <p:sp>
            <p:nvSpPr>
              <p:cNvPr id="130" name=""/>
              <p:cNvSpPr/>
              <p:nvPr/>
            </p:nvSpPr>
            <p:spPr>
              <a:xfrm>
                <a:off x="304920" y="4933800"/>
                <a:ext cx="37335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920" y="4933800"/>
                <a:ext cx="37335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un comput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7620120" y="4416480"/>
              <a:ext cx="1218960" cy="517320"/>
              <a:chOff x="7620120" y="4416480"/>
              <a:chExt cx="1218960" cy="517320"/>
            </a:xfrm>
          </p:grpSpPr>
          <p:sp>
            <p:nvSpPr>
              <p:cNvPr id="133" name=""/>
              <p:cNvSpPr/>
              <p:nvPr/>
            </p:nvSpPr>
            <p:spPr>
              <a:xfrm>
                <a:off x="7620120" y="4416480"/>
                <a:ext cx="12189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0120" y="4416480"/>
                <a:ext cx="12189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038480" y="4416480"/>
              <a:ext cx="3581640" cy="517320"/>
              <a:chOff x="4038480" y="4416480"/>
              <a:chExt cx="3581640" cy="517320"/>
            </a:xfrm>
          </p:grpSpPr>
          <p:sp>
            <p:nvSpPr>
              <p:cNvPr id="136" name=""/>
              <p:cNvSpPr/>
              <p:nvPr/>
            </p:nvSpPr>
            <p:spPr>
              <a:xfrm>
                <a:off x="4038480" y="4416480"/>
                <a:ext cx="358164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038480" y="4416480"/>
                <a:ext cx="358164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due amic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04920" y="4416480"/>
              <a:ext cx="3733560" cy="517320"/>
              <a:chOff x="304920" y="4416480"/>
              <a:chExt cx="3733560" cy="517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04920" y="4416480"/>
                <a:ext cx="37335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920" y="4416480"/>
                <a:ext cx="37335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un amic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7620120" y="3898800"/>
              <a:ext cx="1218960" cy="517680"/>
              <a:chOff x="7620120" y="3898800"/>
              <a:chExt cx="1218960" cy="517680"/>
            </a:xfrm>
          </p:grpSpPr>
          <p:sp>
            <p:nvSpPr>
              <p:cNvPr id="142" name=""/>
              <p:cNvSpPr/>
              <p:nvPr/>
            </p:nvSpPr>
            <p:spPr>
              <a:xfrm>
                <a:off x="7620120" y="3898800"/>
                <a:ext cx="12189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20120" y="3898800"/>
                <a:ext cx="12189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038480" y="3898800"/>
              <a:ext cx="3581640" cy="517680"/>
              <a:chOff x="4038480" y="3898800"/>
              <a:chExt cx="3581640" cy="517680"/>
            </a:xfrm>
          </p:grpSpPr>
          <p:sp>
            <p:nvSpPr>
              <p:cNvPr id="145" name=""/>
              <p:cNvSpPr/>
              <p:nvPr/>
            </p:nvSpPr>
            <p:spPr>
              <a:xfrm>
                <a:off x="4038480" y="3898800"/>
                <a:ext cx="358164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038480" y="3898800"/>
                <a:ext cx="358164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due sed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04920" y="3898800"/>
              <a:ext cx="3733560" cy="517680"/>
              <a:chOff x="304920" y="3898800"/>
              <a:chExt cx="3733560" cy="517680"/>
            </a:xfrm>
          </p:grpSpPr>
          <p:sp>
            <p:nvSpPr>
              <p:cNvPr id="148" name=""/>
              <p:cNvSpPr/>
              <p:nvPr/>
            </p:nvSpPr>
            <p:spPr>
              <a:xfrm>
                <a:off x="304920" y="3898800"/>
                <a:ext cx="37335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4920" y="3898800"/>
                <a:ext cx="37335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una sedi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620120" y="3381480"/>
              <a:ext cx="1218960" cy="517320"/>
              <a:chOff x="7620120" y="3381480"/>
              <a:chExt cx="1218960" cy="517320"/>
            </a:xfrm>
          </p:grpSpPr>
          <p:sp>
            <p:nvSpPr>
              <p:cNvPr id="151" name=""/>
              <p:cNvSpPr/>
              <p:nvPr/>
            </p:nvSpPr>
            <p:spPr>
              <a:xfrm>
                <a:off x="7620120" y="3381480"/>
                <a:ext cx="12189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0120" y="3381480"/>
                <a:ext cx="121896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038480" y="3381480"/>
              <a:ext cx="3581640" cy="517320"/>
              <a:chOff x="4038480" y="3381480"/>
              <a:chExt cx="3581640" cy="517320"/>
            </a:xfrm>
          </p:grpSpPr>
          <p:sp>
            <p:nvSpPr>
              <p:cNvPr id="154" name=""/>
              <p:cNvSpPr/>
              <p:nvPr/>
            </p:nvSpPr>
            <p:spPr>
              <a:xfrm>
                <a:off x="4038480" y="3381480"/>
                <a:ext cx="358164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38480" y="3381480"/>
                <a:ext cx="358164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due sergent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04920" y="3381480"/>
              <a:ext cx="3733560" cy="517320"/>
              <a:chOff x="304920" y="3381480"/>
              <a:chExt cx="3733560" cy="517320"/>
            </a:xfrm>
          </p:grpSpPr>
          <p:sp>
            <p:nvSpPr>
              <p:cNvPr id="157" name=""/>
              <p:cNvSpPr/>
              <p:nvPr/>
            </p:nvSpPr>
            <p:spPr>
              <a:xfrm>
                <a:off x="304920" y="3381480"/>
                <a:ext cx="37335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4920" y="3381480"/>
                <a:ext cx="37335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un sergent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7620120" y="2863800"/>
              <a:ext cx="1218960" cy="517680"/>
              <a:chOff x="7620120" y="2863800"/>
              <a:chExt cx="1218960" cy="517680"/>
            </a:xfrm>
          </p:grpSpPr>
          <p:sp>
            <p:nvSpPr>
              <p:cNvPr id="160" name=""/>
              <p:cNvSpPr/>
              <p:nvPr/>
            </p:nvSpPr>
            <p:spPr>
              <a:xfrm>
                <a:off x="7620120" y="2863800"/>
                <a:ext cx="12189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20120" y="2863800"/>
                <a:ext cx="121896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038480" y="2863800"/>
              <a:ext cx="3581640" cy="517680"/>
              <a:chOff x="4038480" y="2863800"/>
              <a:chExt cx="3581640" cy="517680"/>
            </a:xfrm>
          </p:grpSpPr>
          <p:sp>
            <p:nvSpPr>
              <p:cNvPr id="163" name=""/>
              <p:cNvSpPr/>
              <p:nvPr/>
            </p:nvSpPr>
            <p:spPr>
              <a:xfrm>
                <a:off x="4038480" y="2863800"/>
                <a:ext cx="358164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38480" y="2863800"/>
                <a:ext cx="358164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due ragazz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04920" y="2863800"/>
              <a:ext cx="3733560" cy="517680"/>
              <a:chOff x="304920" y="2863800"/>
              <a:chExt cx="3733560" cy="517680"/>
            </a:xfrm>
          </p:grpSpPr>
          <p:sp>
            <p:nvSpPr>
              <p:cNvPr id="166" name=""/>
              <p:cNvSpPr/>
              <p:nvPr/>
            </p:nvSpPr>
            <p:spPr>
              <a:xfrm>
                <a:off x="304920" y="2863800"/>
                <a:ext cx="37335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4920" y="2863800"/>
                <a:ext cx="37335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un ragazz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620120" y="2346480"/>
              <a:ext cx="1218960" cy="517320"/>
              <a:chOff x="7620120" y="2346480"/>
              <a:chExt cx="1218960" cy="517320"/>
            </a:xfrm>
          </p:grpSpPr>
          <p:sp>
            <p:nvSpPr>
              <p:cNvPr id="169" name=""/>
              <p:cNvSpPr/>
              <p:nvPr/>
            </p:nvSpPr>
            <p:spPr>
              <a:xfrm>
                <a:off x="7620120" y="2346480"/>
                <a:ext cx="12189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20120" y="2346480"/>
                <a:ext cx="121896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2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038480" y="2346480"/>
              <a:ext cx="3581640" cy="517320"/>
              <a:chOff x="4038480" y="2346480"/>
              <a:chExt cx="3581640" cy="517320"/>
            </a:xfrm>
          </p:grpSpPr>
          <p:sp>
            <p:nvSpPr>
              <p:cNvPr id="172" name=""/>
              <p:cNvSpPr/>
              <p:nvPr/>
            </p:nvSpPr>
            <p:spPr>
              <a:xfrm>
                <a:off x="4038480" y="2346480"/>
                <a:ext cx="358164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38480" y="2346480"/>
                <a:ext cx="358164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due libr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04920" y="2346480"/>
              <a:ext cx="3733560" cy="517320"/>
              <a:chOff x="304920" y="2346480"/>
              <a:chExt cx="3733560" cy="51732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2346480"/>
                <a:ext cx="3733560" cy="51732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4920" y="2346480"/>
                <a:ext cx="37335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un libr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7620120" y="1828800"/>
              <a:ext cx="1218960" cy="517680"/>
              <a:chOff x="7620120" y="1828800"/>
              <a:chExt cx="1218960" cy="517680"/>
            </a:xfrm>
          </p:grpSpPr>
          <p:sp>
            <p:nvSpPr>
              <p:cNvPr id="178" name=""/>
              <p:cNvSpPr/>
              <p:nvPr/>
            </p:nvSpPr>
            <p:spPr>
              <a:xfrm>
                <a:off x="7620120" y="1828800"/>
                <a:ext cx="12189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620120" y="1828800"/>
                <a:ext cx="12189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038480" y="1828800"/>
              <a:ext cx="3581640" cy="517680"/>
              <a:chOff x="4038480" y="1828800"/>
              <a:chExt cx="3581640" cy="517680"/>
            </a:xfrm>
          </p:grpSpPr>
          <p:sp>
            <p:nvSpPr>
              <p:cNvPr id="181" name=""/>
              <p:cNvSpPr/>
              <p:nvPr/>
            </p:nvSpPr>
            <p:spPr>
              <a:xfrm>
                <a:off x="4038480" y="1828800"/>
                <a:ext cx="358164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038480" y="1828800"/>
                <a:ext cx="358164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due forchett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04920" y="1828800"/>
              <a:ext cx="3733560" cy="517680"/>
              <a:chOff x="304920" y="1828800"/>
              <a:chExt cx="3733560" cy="517680"/>
            </a:xfrm>
          </p:grpSpPr>
          <p:sp>
            <p:nvSpPr>
              <p:cNvPr id="184" name=""/>
              <p:cNvSpPr/>
              <p:nvPr/>
            </p:nvSpPr>
            <p:spPr>
              <a:xfrm>
                <a:off x="304920" y="1828800"/>
                <a:ext cx="3733560" cy="5176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4920" y="1828800"/>
                <a:ext cx="373356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una forchett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304920" y="1828800"/>
              <a:ext cx="8534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920" y="2346480"/>
              <a:ext cx="8534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2863800"/>
              <a:ext cx="8534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920" y="3381480"/>
              <a:ext cx="8534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920" y="3898800"/>
              <a:ext cx="8534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4416480"/>
              <a:ext cx="8534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4933800"/>
              <a:ext cx="8534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20" y="5451480"/>
              <a:ext cx="8534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20" y="5969160"/>
              <a:ext cx="8534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1828800"/>
              <a:ext cx="1440" cy="41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38480" y="1828800"/>
              <a:ext cx="1800" cy="41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1828800"/>
              <a:ext cx="1440" cy="41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839080" y="1828800"/>
              <a:ext cx="1800" cy="41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09480"/>
            <a:ext cx="7773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are gli err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77738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apprendente sbaglia 5 plurali su 8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 all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’ molto lontano dalla lingua d’arriv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’ migliorato/peggiorato/cambiato rispetto a due mesi f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’ sfortunato, curioso, pig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sa sta facen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40464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re gli errori vs. capire gli err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628640"/>
            <a:ext cx="8002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li errori non sono tutti ugu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pi di err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nologic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es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untagna, pel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ica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es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eggiono, anda, pren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mmatica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 es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eri io dormo, ieri io dormire,  io arrivato, se tu mangere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Anche negozi tutti hanno parlato tedesc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Lui era sempre mangiare a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e loro non bugià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o speranzo … noi dobbiamo matrimon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nere la lingua mate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209680"/>
            <a:ext cx="86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 l'acquisizione della seconda li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 la comunicazione famil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mette di sviluppare un'identità multilingue e multicul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 vantaggi cognitiv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43280" y="1844640"/>
            <a:ext cx="2592360" cy="2952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1844640"/>
            <a:ext cx="2592360" cy="2952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3213000"/>
            <a:ext cx="482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27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27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86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petenza co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um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La fase di accoglienz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Lo sviluppo dell'interlingu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La lingua per studi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sire l’ital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ase di accogli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484280"/>
            <a:ext cx="738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sogno di interag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Lessico per l'inte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Formule prefabbr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rategie so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sogno di orient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Identificazione di ruoli, luoghi, te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Attività: struttura, conf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primo conta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 periodo di silen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e sociali e cog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sico, non grammatica: le prime pa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interlingua di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sogno di orienta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Identificazione di ruoli, luoghi, te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Attività: struttura, conf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250560" y="181080"/>
            <a:ext cx="34920" cy="39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149720"/>
            <a:ext cx="475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78000" y="1552680"/>
            <a:ext cx="32004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78000" y="2009880"/>
            <a:ext cx="1736640" cy="1646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2819520"/>
            <a:ext cx="2133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S PMincho"/>
                <a:ea typeface="MS PMincho"/>
              </a:rPr>
              <a:t>2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400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292640"/>
            <a:ext cx="83041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MS PMincho"/>
              </a:rPr>
              <a:t>Capacità di interagire verbalmente in attività contestualizzate: BICS “Basic Interpersonal Communication Skil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5589720"/>
            <a:ext cx="310032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S PMincho"/>
                <a:ea typeface="MS PMincho"/>
              </a:rPr>
              <a:t>parlanti n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S PMincho"/>
                <a:ea typeface="MS PMincho"/>
              </a:rPr>
              <a:t>parlanti non n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57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e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250560" y="181080"/>
            <a:ext cx="34920" cy="38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005360"/>
            <a:ext cx="475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78000" y="1552680"/>
            <a:ext cx="32004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2362320"/>
            <a:ext cx="2133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S PMincho"/>
                <a:ea typeface="MS PMincho"/>
              </a:rPr>
              <a:t>5-7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6400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4221000"/>
            <a:ext cx="83818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MS PMincho"/>
              </a:rPr>
              <a:t>Abilità linguistiche per le attività a bassa contestualizzazione: CALP “Cognitive Academic Language Pro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5562720"/>
            <a:ext cx="310032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S PMincho"/>
                <a:ea typeface="MS PMincho"/>
              </a:rPr>
              <a:t>parlanti n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S PMincho"/>
                <a:ea typeface="MS PMincho"/>
              </a:rPr>
              <a:t>parlanti non n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7200" y="1676160"/>
            <a:ext cx="304812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457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e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49:28Z</dcterms:created>
  <dc:creator>ste</dc:creator>
  <dc:description/>
  <dc:language>en-US</dc:language>
  <cp:lastModifiedBy>M.I.U.R.</cp:lastModifiedBy>
  <dcterms:modified xsi:type="dcterms:W3CDTF">2009-11-20T09:55:06Z</dcterms:modified>
  <cp:revision>25</cp:revision>
  <dc:subject/>
  <dc:title>Presentazione di PowerPoint</dc:title>
</cp:coreProperties>
</file>