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807-7006-41CD-8934-C6203C85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E2B-39C1-4AA9-AB8A-6753044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766-91EB-40FE-923B-84FF80EF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428-57D9-47FD-AA31-AE55243D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A9D-0E9A-40EC-ABF5-7F2BFC5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AF1-18D5-41DD-AB7F-AEFAA21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FFE-895B-4142-B58D-FC227743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CB4-DA6C-4AA0-B4DD-15BD6DEB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73F-ADB2-49CD-9A22-ADDD4EE4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573-544F-48A5-97C6-91FD889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DBB-A468-418F-B090-833B5D4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0F6-F3F0-44E6-A597-12B0A1F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693B-660F-418B-A275-B4E511F02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orso di formazione inter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Protocollo accogli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posta o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di Bertel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6920" y="333360"/>
          <a:ext cx="7775640" cy="6138720"/>
        </p:xfrm>
        <a:graphic>
          <a:graphicData uri="http://schemas.openxmlformats.org/drawingml/2006/table">
            <a:tbl>
              <a:tblPr/>
              <a:tblGrid>
                <a:gridCol w="2592360"/>
                <a:gridCol w="2590920"/>
                <a:gridCol w="259236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Qua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nda iscrizion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are informazioni sulla scu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ichiedere document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issare appuntamento con docente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greteria didat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llaboratori 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irigente scola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ocente refe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ll’arrivo dell’alun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lloquio con i genitori e l’alun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mpilazione domanda i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accolta informazioni sull’alunno, la famiglia, il processo mig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esentazione regolamento scu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mmissione intercul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ocente refe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irigente scola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ia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izio anno scolastico e/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omento i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260280"/>
          <a:ext cx="7705440" cy="6813720"/>
        </p:xfrm>
        <a:graphic>
          <a:graphicData uri="http://schemas.openxmlformats.org/drawingml/2006/table">
            <a:tbl>
              <a:tblPr/>
              <a:tblGrid>
                <a:gridCol w="2568600"/>
                <a:gridCol w="2568240"/>
                <a:gridCol w="2568600"/>
              </a:tblGrid>
              <a:tr h="25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fondimento conoscenza alun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icognizione situazione di partenza tramite test di livell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ima conoscenza dell’ambiente scolas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ima presentazione dell’organizzazione: orari, attività, ecc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oc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nsiglio di clas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i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cilitatori linguist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imi dieci giorni di scuola e comunque prima dell’inseri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potesi percorso scolas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potesi di percorso scolastico sulla base dei dati raccol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Grado di scolarit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formazioni sul sistema scolastico e valutativo del paese di origi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ogrammazione individualizzata del CdC con obiettivi e metodologie condiv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empi e prove di verifica individualizza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mmissione intercu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nsiglio di clas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irigente scolas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greteria didat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izio anno scolastico o comunque nel primo mese di scuo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476280"/>
          <a:ext cx="7632720" cy="5942160"/>
        </p:xfrm>
        <a:graphic>
          <a:graphicData uri="http://schemas.openxmlformats.org/drawingml/2006/table">
            <a:tbl>
              <a:tblPr/>
              <a:tblGrid>
                <a:gridCol w="2544840"/>
                <a:gridCol w="2543040"/>
                <a:gridCol w="2544840"/>
              </a:tblGrid>
              <a:tr h="30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terminazione della classe tenendo conto 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colarità pregres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est di livello e informazioni racco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potesi percorso scola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…</a:t>
                      </a: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n° alunni, n° alunni stranieri, n°alunni H, n° alunni ripet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llegio do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irigente scola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mmissione intercul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i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izio anno scolastico o comunque nel primo mese di scu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coglienza nella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formazioni particolareggiate ai docenti della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esentazione a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ttività specifiche di accoglie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ordinator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eferente intercul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ocent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imo giorno di inserimento o comunque durante la prima setti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404640"/>
          <a:ext cx="7919640" cy="583236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39880"/>
              </a:tblGrid>
              <a:tr h="58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finizione del percorso scolastico e interventi di facilitazion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sservazione iniziale con attività di valutazione spec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efinizione delle competenze e degli obiettivi minimi su cui basare il piano personalizz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efinizione di tempi, strumenti e metodolo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involgimento di ogni docente del consiglio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esentazione del piano allo studente e alla famig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Valutazione in itinere e valutazione fi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nsiglio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ocenti 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i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cilitatori linguisti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tero anno scola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9:01:23Z</dcterms:created>
  <dc:creator>M.I.U.R.</dc:creator>
  <dc:description/>
  <dc:language>en-US</dc:language>
  <cp:lastModifiedBy>M.I.U.R.</cp:lastModifiedBy>
  <dcterms:modified xsi:type="dcterms:W3CDTF">2009-11-20T09:54:43Z</dcterms:modified>
  <cp:revision>6</cp:revision>
  <dc:subject/>
  <dc:title>Alunni stranieri</dc:title>
</cp:coreProperties>
</file>