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FFC6-F778-4A31-99AE-01082A508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4907-B8AD-4986-AD88-50BB9393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3C16-0530-4EDF-A86A-987D82FE6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EF19-D464-4455-A992-8EAF370D7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38E3-0A24-48A2-899E-4D1499DD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9CB5-E33A-418A-8B06-BDD2E2E2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320A-518C-4873-987C-B72F5582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CD16-A61A-4B4B-B948-36ACC4FB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75DC-88D6-4A5B-BC01-EE6DE2AA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2D48-E82C-40AD-80AE-D67CD35D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B2CF-FEC3-4F73-8952-361BB227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FD54-92B5-4E99-9A36-70489048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A2EB-FD93-4ABB-B81A-CC9E91B9F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entrocome.it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hyperlink" Target="http://www.2000milia.it/" TargetMode="External"/><Relationship Id="rId7" Type="http://schemas.openxmlformats.org/officeDocument/2006/relationships/image" Target="../media/image1.png"/><Relationship Id="rId8" Type="http://schemas.openxmlformats.org/officeDocument/2006/relationships/hyperlink" Target="http://www.irre.toscana.it/" TargetMode="External"/><Relationship Id="rId9" Type="http://schemas.openxmlformats.org/officeDocument/2006/relationships/image" Target="../media/image1.png"/><Relationship Id="rId10" Type="http://schemas.openxmlformats.org/officeDocument/2006/relationships/hyperlink" Target="http://www.educare.it/" TargetMode="External"/><Relationship Id="rId11" Type="http://schemas.openxmlformats.org/officeDocument/2006/relationships/image" Target="../media/image1.png"/><Relationship Id="rId12" Type="http://schemas.openxmlformats.org/officeDocument/2006/relationships/hyperlink" Target="http://www.associazioni.comune.firenze.it/ilsa/" TargetMode="External"/><Relationship Id="rId13" Type="http://schemas.openxmlformats.org/officeDocument/2006/relationships/image" Target="../media/image1.png"/><Relationship Id="rId14" Type="http://schemas.openxmlformats.org/officeDocument/2006/relationships/hyperlink" Target="http://www.matematicasenzafrontiere.it/" TargetMode="External"/><Relationship Id="rId15" Type="http://schemas.openxmlformats.org/officeDocument/2006/relationships/image" Target="../media/image1.png"/><Relationship Id="rId16" Type="http://schemas.openxmlformats.org/officeDocument/2006/relationships/hyperlink" Target="http://www.edscuola.it/stranieri" TargetMode="External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2.gif"/><Relationship Id="rId2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13600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ccoglienza  -  Intercultura  -  Italiano L2 per alunni stranieri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i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060640"/>
            <a:ext cx="7488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centrocome.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iprase.tn.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indire.it/intercultu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www.2000milia.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www.irre.toscana.i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www.educare.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www.associazioni.comune.firenze.it/ilsa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www.matematicasenzafrontiere.i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www.edscuola.it/stranieri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crocusproject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gabrielepallotti.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unive.it/progettoal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0"/>
          <a:stretch/>
        </p:blipFill>
        <p:spPr>
          <a:xfrm>
            <a:off x="1042920" y="981000"/>
            <a:ext cx="1297080" cy="10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ana Mazzoncin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2T16:19:05Z</dcterms:created>
  <dc:creator>a</dc:creator>
  <dc:description/>
  <dc:language>en-US</dc:language>
  <cp:lastModifiedBy>M.I.U.R.</cp:lastModifiedBy>
  <dcterms:modified xsi:type="dcterms:W3CDTF">2009-11-20T09:55:53Z</dcterms:modified>
  <cp:revision>13</cp:revision>
  <dc:subject/>
  <dc:title>Accoglienza  -  Intercultura  -  Italiano L2 per alunni stranieri  Guida ai siti Internet</dc:title>
</cp:coreProperties>
</file>